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whoosh.wav" ContentType="audio/x-wav"/>
  <Override PartName="/ppt/media/image7.jpeg" ContentType="image/jpeg"/>
  <Override PartName="/ppt/media/image5.jpeg" ContentType="image/jpeg"/>
  <Override PartName="/ppt/media/type.wav" ContentType="audio/x-wav"/>
  <Override PartName="/ppt/media/image13.jpeg" ContentType="image/jpeg"/>
  <Override PartName="/ppt/media/laser.wav" ContentType="audio/x-wav"/>
  <Override PartName="/ppt/media/image4.jpeg" ContentType="image/jpeg"/>
  <Override PartName="/ppt/media/carbrake.wav" ContentType="audio/x-wav"/>
  <Override PartName="/ppt/media/image3.jpeg" ContentType="image/jpeg"/>
  <Override PartName="/ppt/media/image12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2135-D631-4658-9E65-25159058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C5F4-3D4A-41B2-95D0-800EE3F5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6E9F-0B2D-4697-A2B2-6A0D105F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13D7-4C57-43CE-874C-3F9B4276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931-A2B6-4B77-AED1-48C1641E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7CC-526F-42DF-8834-C01B2F45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40A-8F19-4623-BE08-4EA6BA05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4D92-B44C-4838-94A9-DCA4DB40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9B69-55B1-4FC3-A9A4-6A410C71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D28C-DC4F-470F-B513-08D87D2B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677-3A07-4917-9528-3D59D893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EF3-12AD-4D39-91CF-DADE03DB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BF5D-B99E-42DA-A4A8-2BA9452A3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carbrake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943600" cy="6096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5280" y="533520"/>
            <a:ext cx="7620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uando ingreses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 tu lugar de trabaj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520" y="4114800"/>
            <a:ext cx="6324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¡Ora y pide iluminación  de Dios Todo Poderos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pull dir="rd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553080" cy="6400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81280" y="49528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¡Eso se llama                     Toleranci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45720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prende, que no todos se encuentran en la misma sintoní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pull dir="lu"/>
    <p:sndAc>
      <p:stSnd>
        <p:snd r:embed="rId2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6934320" cy="6162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457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cibe las bendiciones con gratitud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2320" y="4114800"/>
            <a:ext cx="4114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¡Eso se llama Humilda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split dir="in" orient="horz"/>
    <p:sndAc>
      <p:stSnd>
        <p:snd r:embed="rId2" name="chimes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7621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vantGarde Bk BT"/>
              </a:rPr>
              <a:t>Dios está contig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Bookman Old Style"/>
              </a:rPr>
              <a:t>¡¡¡Eso se llama AMOR 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strips dir="ru"/>
    <p:sndAc>
      <p:stSnd>
        <p:snd r:embed="rId2" name="chimes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75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ff"/>
                </a:solidFill>
                <a:latin typeface="Bookman Old Style"/>
              </a:rPr>
              <a:t>¡Que cada día de trabajo</a:t>
            </a:r>
            <a:br>
              <a:rPr sz="4000"/>
            </a:br>
            <a:br>
              <a:rPr sz="4000"/>
            </a:br>
            <a:r>
              <a:rPr b="0" i="1" lang="pt-BR" sz="4000" spc="-1" strike="noStrike">
                <a:solidFill>
                  <a:srgbClr val="ffffff"/>
                </a:solidFill>
                <a:latin typeface="Bookman Old Style"/>
              </a:rPr>
              <a:t>incremente tu entusiasmo de vivir </a:t>
            </a:r>
            <a:br>
              <a:rPr sz="4000"/>
            </a:br>
            <a:br>
              <a:rPr sz="4000"/>
            </a:br>
            <a:r>
              <a:rPr b="0" i="1" lang="pt-BR" sz="4000" spc="-1" strike="noStrike">
                <a:solidFill>
                  <a:srgbClr val="ffffff"/>
                </a:solidFill>
                <a:latin typeface="Bookman Old Style"/>
              </a:rPr>
              <a:t>y no solamente tu edad!</a:t>
            </a:r>
            <a:r>
              <a:rPr b="0" i="1" lang="pt-BR" sz="4000" spc="-1" strike="noStrike">
                <a:solidFill>
                  <a:srgbClr val="ffffff"/>
                </a:solidFill>
                <a:latin typeface="Bookman Old Style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  <p:sndAc>
      <p:stSnd>
        <p:snd r:embed="rId2" name="chimes.wav"/>
      </p:stSnd>
    </p:sndAc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75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257800" cy="632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81480" y="2286000"/>
            <a:ext cx="3733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0" y="533160"/>
            <a:ext cx="4114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aluda a tus colega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81120" y="441972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¡Eso se llam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Amista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Bar dir="vert"/>
    <p:sndAc>
      <p:stSnd>
        <p:snd r:embed="rId2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5181480" cy="6324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24280" y="205740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2520" y="533160"/>
            <a:ext cx="3505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Brinda a cada uno, lo mejor de ti mism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5053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¡Eso se llama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Sincerida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in"/>
    <p:sndAc>
      <p:stSnd>
        <p:snd r:embed="rId2" name="chimes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3152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66880" y="380880"/>
            <a:ext cx="39625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labora tu agenda y programa tu dí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57440" y="480024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¡Eso se llama Reflexió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  <p:sndAc>
      <p:stSnd>
        <p:snd r:embed="rId2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76520" y="685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04920" y="7621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5410440" cy="640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48006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¡Eso se lla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Acció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533520"/>
            <a:ext cx="3886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hora, con todo planeado... ¡Comienza a trabajar!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strips dir="ld"/>
    <p:sndAc>
      <p:stSnd>
        <p:snd r:embed="rId2" name="chimes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267080" cy="5943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19720" y="762120"/>
            <a:ext cx="426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credita que todo saldrá bie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880" y="411480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¡Eso</a:t>
            </a:r>
            <a:br>
              <a:rPr sz="4000"/>
            </a:b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                se llama</a:t>
            </a:r>
            <a:br>
              <a:rPr sz="4000"/>
            </a:b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                               F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  <p:sndAc>
      <p:stSnd>
        <p:snd r:embed="rId2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586764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0" y="5257800"/>
            <a:ext cx="51055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¡Eso se llam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Entusiasm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457200"/>
            <a:ext cx="3429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aliza todo con alegrí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  <p:sndAc>
      <p:stSnd>
        <p:snd r:embed="rId2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1350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701064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90920" y="5257800"/>
            <a:ext cx="61722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¡Eso se llam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Perfecció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362320"/>
            <a:ext cx="22860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o mejor</a:t>
            </a: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 ti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vert"/>
    <p:sndAc>
      <p:stSnd>
        <p:snd r:embed="rId2" name="chimes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1219320"/>
            <a:ext cx="5486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yuda a las personas que poseen más dificultades que tú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914760" y="4495680"/>
            <a:ext cx="6095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¡Eso se llama </a:t>
            </a:r>
            <a:br>
              <a:rPr sz="4000"/>
            </a:b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Fraternida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Bar dir="horz"/>
    <p:sndAc>
      <p:stSnd>
        <p:snd r:embed="rId2" name="chimes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SENA</cp:lastModifiedBy>
  <dcterms:modified xsi:type="dcterms:W3CDTF">2004-05-07T17:41:20Z</dcterms:modified>
  <cp:revision>12</cp:revision>
  <dc:subject/>
  <dc:title>Slide sem título </dc:title>
</cp:coreProperties>
</file>